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66A-951B-4144-AD1C-E004EC47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DE4-C7CC-4A9C-9C58-50119DC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4B5-D3A2-44EC-A5AB-AAE16ACB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2FB-53CD-45E8-843E-9ABA907A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B38F7-1A19-438E-A757-AE15CAE6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ECCED-43E6-4BEA-9ECC-BAC8C6F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F5572-C085-4676-9794-59C27AF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5759A-7471-4800-8766-31A34E04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A382C-6B63-4E41-A00B-4C7977A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0F574-A2EB-4C9B-A83A-A2F27759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E82F3-D54C-44C2-850D-E174777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091-682A-4DEC-8C34-FDD827C8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3B71C-D3FA-4447-A797-215C3ED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B13B-8591-47FC-B27D-1A9E7E9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7722E-8A44-4CE3-8434-657AB98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81EF-2106-453A-B827-CE49B277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EB0F6-8659-4868-8A39-9559B6F6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140-6106-4120-A63F-B2EFB22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EAD-1BDA-4680-8A6C-443D129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C6C-4715-4AF9-88C7-3CB691CA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664-2792-4A93-BB01-12AE423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7BF-2DC4-4934-BCA0-45FFDB7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FF1-EDCD-4B47-9D23-38CF87C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324-A781-4E3B-9131-0A166AD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32A0-544F-4D27-AE33-7234A8A26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119-FEBE-4CE5-B6EE-312DC8B8B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L TIEMPO PRES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8960" y="23619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tiempo Presente es la forma verbal más amplia; incluso se le ha llegado a denominar el “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archi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” del Ind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el tiempo más neutro de todo el sistema verbal, lo que explica su multitud de u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sente habit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ó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no continu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pi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.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sábados voy a la discotec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nos referimos a hechos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alcance general o universal,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ligados de toda temporali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gnómico o atem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usa pa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dar definiciones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presar una acción que se desarrolla fuera del tiemp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presar sentencias, refranes y definiciones científ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Ej.: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os mamíferos son animales vertebr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gua hierve a cien grados – Son las dos y cuarto – Es un chico muy intelig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os casos se considera lo expresado por el verbo,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rasgo que define una situación, como una característica inherente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1.3.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n relación con el futuro cronólogico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Utilizamos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queremos hablar de un futuro cronólogico cuando queremos presentar l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formación como segura y totalmente controlada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muchos casos el empleo de este tiempo va acompañado por u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arcador de 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mañana, el proximo año, el mes que viene..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ñana vamos a la playa con Luis, vienes con nosotr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esente es el tiempo más empleado en la lengua hablada (tanto formal como informal) para anunciar cosa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ogramad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que van 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legar de modo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en cambio queremos presentar la información como un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di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samos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ás program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e añ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oy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viaje al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en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ogram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e añ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iré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e viaje al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1.4.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n relación con el pasado cro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emplea el Presente referido al pasado cronológico en contextos en que ha aparecido o aparece un marcador de tiemp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ocido también com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resente histórico o nar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disloca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tiempo hacia el pasado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ándolo así en una perspectiva más cerca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zarillo de Tormes s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publ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urante el reinado de Carlos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lón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us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tres carabelas para descubrir América"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resente con valor de imperativo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- Tiene un valor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minencia y con matiz de  orden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“Ahora t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lav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os dientes y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 la cama "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- .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Tú te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call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uando el enunciador quiere referirse más especificamente a la situació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ncret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que se encuentra , usa con frecuenc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rmen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stá cepillan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l p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presente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en español es un tiempo verbal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absoluto y de aspecto Imperfectiv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, porque la acción  no se refiere exactamente a una acción termina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de un punto de vista teórico, el presente es un instant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nstantem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ambiante e ina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 explic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ones actual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ciones pasada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utura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temporal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bitu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órdenes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Sastre Ruano, 199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, frente al pretérito y el futuro, la form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no marc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y por tanto es inclusiv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 utilizarse par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indicar el pasado 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l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si bien se refuerza ese matiz con complementos circunstanciales de tiempo) como se aprecia en su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valores traslad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Dur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 un estado de cosas que se mantiene a través del tiemp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El muse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exhib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s obras de Miró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Gnómic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utilizado por ejemplo en la formulación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franes y dichos popul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A quien madruga Dios le ayuda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histór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usado para referirse a hechos sucedidos en la historia que estrictamente hablando ya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on parte del pasado para acercarlos al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El hombr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leg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a luna en 1969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por Futur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que se refiere al uso del presente en reemplazo del empleo del futuro para expresar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ituaciones o hechos que aún no ocurr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"Mañana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l cumpleaños de Pep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por Imperativ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on el que nos encontramos al usar el presente en vez de los tiempos propiamente imperativos de la lengua castellana: 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e call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Presente en prótasis condi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i lo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v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dile que me llame".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e tiempo está estrechamente relacionado con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resente cronológico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, con el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y el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pasado cron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see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valor univers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sligado de un momento preciso del tiempo cronológico si se u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y pedir informació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y pedir instruccion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pedir favor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ara dar defini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Usamos el Presente: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afirmar cosas del presente conológico que presentamos com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eguras y totalmente contro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acione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regula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hablar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cosas habituales en el 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us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esente de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soler + infin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generalmente/normalmente/habitualmente</a:t>
            </a:r>
            <a:r>
              <a:rPr b="0" lang="es-ES" sz="2800" spc="-1" strike="noStrike">
                <a:solidFill>
                  <a:srgbClr val="66ff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 presente de indic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Normalmente vamos al cine los jue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uele tomar café con leche por la mañ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tuaciones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omentáneas  o de dur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limitad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una acción que incluye el tiempo presente. Esta acción puede ser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puntu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dur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emplos: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n este moment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el ganador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entr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n la me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a "operación salida" se </a:t>
            </a:r>
            <a:r>
              <a:rPr b="0" i="1" lang="it-IT" sz="2800" spc="-1" strike="noStrike">
                <a:solidFill>
                  <a:srgbClr val="ff3300"/>
                </a:solidFill>
                <a:latin typeface="Verdana"/>
              </a:rPr>
              <a:t>efectúa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con normalidad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ora  </a:t>
            </a:r>
            <a:r>
              <a:rPr b="0" i="1" lang="es-ES" sz="2800" spc="-1" strike="noStrike">
                <a:solidFill>
                  <a:srgbClr val="ff3300"/>
                </a:solidFill>
                <a:latin typeface="Verdana"/>
              </a:rPr>
              <a:t>tien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sueño y no quiere hablar cont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1:17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